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2800-11FF-4D36-84A1-1CA1BFDB3AB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2A61-D8EE-4B78-83BE-0827B37B4E36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CB1-E0AD-4643-95FD-1CB0C95B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26B-A665-4596-A3A8-5FC68F6F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B30-807D-45A8-8F92-420155789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36B-AD71-4536-9E79-413FEF17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150-AD33-4F62-BD42-B622A9DC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BD6-DD37-4410-B032-B0628DBC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9774-1977-445A-8A6D-DCEB624D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3623-54F9-4BD3-A9C6-1369BA83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76A7-F9E0-483A-B3D7-DA6527B5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CE42-8A54-48E7-9DF1-A5EC0529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A6F-A2EC-4CFF-835B-95817358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880-4887-4EDD-9CFB-CC197CDD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6CB7-192A-4302-9DAA-D5721D15F9C2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 Internet und 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Björn  - 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Funktioniert Privatsphäre auch im Interne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Funktioniert Privatsphäre</a:t>
            </a:r>
            <a:br>
              <a:rPr sz="4400"/>
            </a:b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auch im Intern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Lesen, denken, nochmal denken und dann erst machen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üllt bei der Anmeldung nicht alle Daten aus, sondern nur die, die unbedingt notwendig sin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Ändert die Einstellungen eures Profils so, dass nicht jeder andere Benutzer alle Daten von euch sieh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Prüft, wem ihr eure Daten eigentlich geb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oziale Netzwerk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nutzt „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oziale Netzwerke“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G:\Chaos macht Schule\Mittelstufe - Wilhelm-Gymnasium - HH-Harvestehude\Keynote\screenshot 50.png"/>
          <p:cNvPicPr/>
          <p:nvPr/>
        </p:nvPicPr>
        <p:blipFill>
          <a:blip r:embed="rId2"/>
          <a:stretch/>
        </p:blipFill>
        <p:spPr>
          <a:xfrm>
            <a:off x="6429240" y="4000680"/>
            <a:ext cx="1428840" cy="496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G:\Chaos macht Schule\Mittelstufe - Wilhelm-Gymnasium - HH-Harvestehude\Keynote\screenshot 51.png"/>
          <p:cNvPicPr/>
          <p:nvPr/>
        </p:nvPicPr>
        <p:blipFill>
          <a:blip r:embed="rId3"/>
          <a:stretch/>
        </p:blipFill>
        <p:spPr>
          <a:xfrm>
            <a:off x="4857840" y="2857680"/>
            <a:ext cx="1803240" cy="99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G:\Chaos macht Schule\Mittelstufe - Wilhelm-Gymnasium - HH-Harvestehude\Keynote\Bild 25.png"/>
          <p:cNvPicPr/>
          <p:nvPr/>
        </p:nvPicPr>
        <p:blipFill>
          <a:blip r:embed="rId4"/>
          <a:stretch/>
        </p:blipFill>
        <p:spPr>
          <a:xfrm>
            <a:off x="1071720" y="2928960"/>
            <a:ext cx="2422440" cy="120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G:\Chaos macht Schule\Mittelstufe - Wilhelm-Gymnasium - HH-Harvestehude\Keynote\screenshot 53.png"/>
          <p:cNvPicPr/>
          <p:nvPr/>
        </p:nvPicPr>
        <p:blipFill>
          <a:blip r:embed="rId5"/>
          <a:stretch/>
        </p:blipFill>
        <p:spPr>
          <a:xfrm>
            <a:off x="2643120" y="4071960"/>
            <a:ext cx="3594240" cy="10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G:\Chaos macht Schule\Mittelstufe - Wilhelm-Gymnasium - HH-Harvestehude\Keynote\screenshot 49.png"/>
          <p:cNvPicPr/>
          <p:nvPr/>
        </p:nvPicPr>
        <p:blipFill>
          <a:blip r:embed="rId6"/>
          <a:stretch/>
        </p:blipFill>
        <p:spPr>
          <a:xfrm>
            <a:off x="785880" y="5357880"/>
            <a:ext cx="2428920" cy="56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G:\Chaos macht Schule\Mittelstufe - Wilhelm-Gymnasium - HH-Harvestehude\Keynote\screenshot 52.png"/>
          <p:cNvPicPr/>
          <p:nvPr/>
        </p:nvPicPr>
        <p:blipFill>
          <a:blip r:embed="rId7"/>
          <a:stretch/>
        </p:blipFill>
        <p:spPr>
          <a:xfrm>
            <a:off x="5000760" y="492912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Gerade Verbindung 13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G:\chaosknoten.png"/>
          <p:cNvPicPr/>
          <p:nvPr/>
        </p:nvPicPr>
        <p:blipFill>
          <a:blip r:embed="rId8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ist bei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680" y="1714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7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27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8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29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9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32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10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42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an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 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remde und Freund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 den Standardeinstellungen dürfen nur eure Freunde auf euer Profil, eure Gruppen und eure Fotos zugreif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o können Fremde euch nicht beobachte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aut in euren Einstellungen nach und ändert da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680" y="1356840"/>
            <a:ext cx="79293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G:\Chaos macht Schule\Gesamtschule Blankenese\Powerpoint\Profil.gesperrt.png"/>
          <p:cNvPicPr/>
          <p:nvPr/>
        </p:nvPicPr>
        <p:blipFill>
          <a:blip r:embed="rId3"/>
          <a:stretch/>
        </p:blipFill>
        <p:spPr>
          <a:xfrm>
            <a:off x="857160" y="1785960"/>
            <a:ext cx="73630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57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G:\Chaos macht Schule\Gesamtschule Blankenese\Powerpoint\Profil.offen.png"/>
          <p:cNvPicPr/>
          <p:nvPr/>
        </p:nvPicPr>
        <p:blipFill>
          <a:blip r:embed="rId3"/>
          <a:stretch/>
        </p:blipFill>
        <p:spPr>
          <a:xfrm>
            <a:off x="2071800" y="1214280"/>
            <a:ext cx="50720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bedeutet Freundschaft für euc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Wichtig: Freundschaft hat was mit Vertrauen zu tu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ur weil euch jemand eine Freundschaft anbietet, heißt das noch lange nicht, dass ihr die auch annehmen müss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Oder würdet ihr jeden in euer Zimmer rein lassen, nur weil er oder sie an der Tür klopf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Die meisten „Freunde“ zu haben, ist nicht c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ich auf richtige Freunde verlassen zu können, ist c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Nicknames sind erfunden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Ina.Lehmann@Inter.net muss nicht Ina Lehmann se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Online kann jeder vorgeben, jemand anderes zu se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Zuerst prüfen,  bevor ihr jemanden als Freund hinzufüg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as lernen wir aus all de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m Internet gibt es keine Polizei oder Behörde, die hilf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können eh nur meine Freunde lesen“ gibt es nich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Internet vergisst nicht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Die 4 goldenen Regel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428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reibt im Netz nur, was die Welt wirklich wissen darf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uch in Foren oder im SchülerVZ kann das jeder lesen: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 Mitschüler, Lehrer, Eltern und sogar Fremd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nn möglich, benutzt einen Spitznamen (Nickname)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n echten Namen könnt ihr nicht so einfach wechsel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wahllos eure Adresse weg. Auch eure Handynummer geht nur eure Freunde etwas 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einfach Fotos von euch raus und ladet keine Fotos von anderen ins Internet, ohne sie zu frag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s Wachbleiben!</a:t>
            </a: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de-DE" sz="4400" spc="-1" strike="noStrike">
                <a:solidFill>
                  <a:srgbClr val="ffffff"/>
                </a:solidFill>
                <a:latin typeface="Calibri"/>
              </a:rPr>
              <a:t>Fragen? </a:t>
            </a: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Immer her damit. :-)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Björn  -  bjoern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von Euch spielt…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kumente und Einstellungen\Administrator\Desktop\hwg\bilder wow\worldmap.gif"/>
          <p:cNvPicPr/>
          <p:nvPr/>
        </p:nvPicPr>
        <p:blipFill>
          <a:blip r:embed="rId3"/>
          <a:stretch/>
        </p:blipFill>
        <p:spPr>
          <a:xfrm>
            <a:off x="2357280" y="1357200"/>
            <a:ext cx="3429000" cy="2511360"/>
          </a:xfrm>
          <a:prstGeom prst="rect">
            <a:avLst/>
          </a:prstGeom>
          <a:ln w="0">
            <a:noFill/>
          </a:ln>
        </p:spPr>
      </p:pic>
      <p:pic>
        <p:nvPicPr>
          <p:cNvPr id="191" name="Grafik 8" descr="mmorpg-fantasy-metin2-screenshot6.jpg"/>
          <p:cNvPicPr/>
          <p:nvPr/>
        </p:nvPicPr>
        <p:blipFill>
          <a:blip r:embed="rId4"/>
          <a:stretch/>
        </p:blipFill>
        <p:spPr>
          <a:xfrm>
            <a:off x="5572080" y="3286080"/>
            <a:ext cx="2959200" cy="1967040"/>
          </a:xfrm>
          <a:prstGeom prst="rect">
            <a:avLst/>
          </a:prstGeom>
          <a:ln w="0">
            <a:noFill/>
          </a:ln>
        </p:spPr>
      </p:pic>
      <p:pic>
        <p:nvPicPr>
          <p:cNvPr id="192" name="Inhaltsplatzhalter 6" descr="flyffScreenshot2.jpg"/>
          <p:cNvPicPr/>
          <p:nvPr/>
        </p:nvPicPr>
        <p:blipFill>
          <a:blip r:embed="rId5"/>
          <a:stretch/>
        </p:blipFill>
        <p:spPr>
          <a:xfrm>
            <a:off x="785880" y="3714840"/>
            <a:ext cx="27684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lche Spiele spielt ih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daran 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stört eure Eltern an diesen Spiel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Eltern an den Spielen nicht so toll fi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Dauer der Abenteuer ist oft sehr l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können leicht süchtig ma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an muss oft online sein, um den Anschluss nicht zu verpass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iele Spiele verursachen laufende Kos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haben kein En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wir euch empfeh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lant eure Spiele genau wie andere Termin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eldet lange Quests bei euren Eltern 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eigt euren Eltern, dass ihr die anderen Aufgaben auch erled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grenzt eure wöchentlichen Ausgaben für das Spiel (bei Flyff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ie funktioniert eigentlich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s Interne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G:\internet.gif"/>
          <p:cNvPicPr/>
          <p:nvPr/>
        </p:nvPicPr>
        <p:blipFill>
          <a:blip r:embed="rId2"/>
          <a:stretch/>
        </p:blipFill>
        <p:spPr>
          <a:xfrm>
            <a:off x="1928880" y="1571760"/>
            <a:ext cx="5214960" cy="4643280"/>
          </a:xfrm>
          <a:prstGeom prst="rect">
            <a:avLst/>
          </a:prstGeom>
          <a:ln w="0">
            <a:noFill/>
          </a:ln>
        </p:spPr>
      </p:pic>
      <p:sp>
        <p:nvSpPr>
          <p:cNvPr id="68" name="Gerade Verbindung 6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Verbindungs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P-Adresse -&gt; Wohnort, Spra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triebssystem, Brows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erlauf der Seitenaufru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kie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Cookies: Beispiel Amaz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G:\Chaos macht Schule\Mittelstufe - Wilhelm-Gymnasium - HH-Harvestehude\Keynote\amazon.png"/>
          <p:cNvPicPr/>
          <p:nvPr/>
        </p:nvPicPr>
        <p:blipFill>
          <a:blip r:embed="rId2"/>
          <a:stretch/>
        </p:blipFill>
        <p:spPr>
          <a:xfrm>
            <a:off x="2928960" y="171468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79" name="Rechteck 4"/>
          <p:cNvSpPr/>
          <p:nvPr/>
        </p:nvSpPr>
        <p:spPr>
          <a:xfrm>
            <a:off x="357120" y="1785960"/>
            <a:ext cx="257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mazon weiß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was ich mir in der Vergang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geguckt habe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und schlägt mir entsprech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dere Produkte v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o kann Amazon m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urfverhal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nachvollziehen 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zielgerichtete Werbung schal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Gerade Verbindung 7"/>
          <p:cNvSpPr/>
          <p:nvPr/>
        </p:nvSpPr>
        <p:spPr>
          <a:xfrm>
            <a:off x="28584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Vorratsdatenspeicherung“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Der Staat liest mi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hrzeit und IP-Adres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ufgerufene Webseite (UR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bsender, Empfänger und Inhalt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jeder Email und S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ufnummern und Anrufdauer bei Telefon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tandort (Funkzelle) von Hand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Freiwillige“ 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oziale Netzwerke“ und Cha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ersönliche Benutzerpro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nternet Arch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nverschlüsselte Passwör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bedeutet für euch „Privatsphäre“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6-23T20:20:32Z</dcterms:modified>
  <cp:revision>127</cp:revision>
  <dc:subject/>
  <dc:title>Folie 1</dc:title>
</cp:coreProperties>
</file>